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772-A901-4A39-95BF-4B0A6B1E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FEF-9E45-4E20-9133-657145EA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FE8-1D10-4290-BB42-D6D6E883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8AF-17A2-4A60-AF30-C4DC9D7E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F78-02C0-4848-A54D-FBCB21BB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F2F-C47C-4497-AACB-8BCEC3B9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556-7C4B-4C53-9CEE-9C3C555B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751-C009-4902-85DA-058E9BC6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413-A3C2-43DF-9300-528F67DA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86D-CBFD-4E66-BA7F-3603B910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791-386F-4F1B-A53D-0B3FE37C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D3F-FBB5-4E37-9F7E-D1ED4673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D68C-84C5-4EC0-AC90-2070A9E78BC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248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ABDOMINAL CAVI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reater_and_lesser_sac_1035[1]"/>
          <p:cNvPicPr/>
          <p:nvPr/>
        </p:nvPicPr>
        <p:blipFill>
          <a:blip r:embed="rId1"/>
          <a:stretch/>
        </p:blipFill>
        <p:spPr>
          <a:xfrm>
            <a:off x="395280" y="1197000"/>
            <a:ext cx="8236080" cy="5400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547640" y="18900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eritoneal Refl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igest32"/>
          <p:cNvPicPr/>
          <p:nvPr/>
        </p:nvPicPr>
        <p:blipFill>
          <a:blip r:embed="rId1"/>
          <a:stretch/>
        </p:blipFill>
        <p:spPr>
          <a:xfrm>
            <a:off x="2340000" y="1628640"/>
            <a:ext cx="4825800" cy="4969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468360" y="404640"/>
            <a:ext cx="73436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ccff"/>
                </a:solidFill>
                <a:uFillTx/>
                <a:latin typeface="Times New Roman"/>
              </a:rPr>
              <a:t>The folds of peritoneum are called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Omentu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related to the stom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072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2- 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Mesentr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f related to the small intest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3- 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mesocol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f related to the large intest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C:\Documents and Settings\PC\Desktop\eman\ZOO%20234%20The%20Mesentery%20&amp;%20Mesocolon.jpg"/>
          <p:cNvPicPr/>
          <p:nvPr/>
        </p:nvPicPr>
        <p:blipFill>
          <a:blip r:embed="rId1"/>
          <a:stretch/>
        </p:blipFill>
        <p:spPr>
          <a:xfrm>
            <a:off x="2771640" y="2637000"/>
            <a:ext cx="4267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4105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4- 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ligament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g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gaments of the liver, falciform, right and left trian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gaments of the spleen; gastrosplenic and lienore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liver"/>
          <p:cNvPicPr/>
          <p:nvPr/>
        </p:nvPicPr>
        <p:blipFill>
          <a:blip r:embed="rId1"/>
          <a:stretch/>
        </p:blipFill>
        <p:spPr>
          <a:xfrm>
            <a:off x="4500720" y="533520"/>
            <a:ext cx="46432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ff"/>
                </a:solidFill>
                <a:uFillTx/>
                <a:latin typeface="Times New Roman"/>
              </a:rPr>
              <a:t>The main contents of the peritoneal folds ar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8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- blood vessels supplying the related org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- autonomic nerve plex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- lymphatics and lymph nodes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- extraperitoneal connective tis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- the organs themselves ( for freely mobile orga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peritoneum (peritoneal sac) is a closed sac in male however in females it is not completely closed as the two lateral ends of the Fallopian tubes open i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ccff"/>
                </a:solidFill>
                <a:latin typeface="Times New Roman"/>
              </a:rPr>
              <a:t>The peritoneal cavity is divided into two main sac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57480" cy="3657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Greater sa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Lesser sa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two sacs are connected together throug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he epiploic foramen (foramen of the lesser s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36003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ff"/>
                </a:solidFill>
                <a:uFillTx/>
                <a:latin typeface="Times New Roman"/>
              </a:rPr>
              <a:t>Greater sac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4103640" cy="2666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is the part of peritoneum that is present just behind the anterior abdominal w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570560" y="1989000"/>
            <a:ext cx="43243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ffccff"/>
                </a:solidFill>
                <a:uFillTx/>
                <a:latin typeface="Times New Roman"/>
              </a:rPr>
              <a:t>Lesser sac (omental bursa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2742840"/>
            <a:ext cx="4249800" cy="3422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is a small diverticulum of the peritoneal sac that lies behind the stom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Greater_and_lesser_sac_1035[1]"/>
          <p:cNvPicPr/>
          <p:nvPr/>
        </p:nvPicPr>
        <p:blipFill>
          <a:blip r:embed="rId1"/>
          <a:stretch/>
        </p:blipFill>
        <p:spPr>
          <a:xfrm>
            <a:off x="4572000" y="2421000"/>
            <a:ext cx="432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ff"/>
                </a:solidFill>
                <a:uFillTx/>
                <a:latin typeface="Times New Roman"/>
              </a:rPr>
              <a:t>Boundaries of the lesser sac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4176720" cy="468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Anterior wa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bove downward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- lesser oment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- peritoneum covering the posterior surface of the stomach and 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inch of duoden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- anterior 2 layers of the greater oment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Greater_and_lesser_sac_1035[1]"/>
          <p:cNvPicPr/>
          <p:nvPr/>
        </p:nvPicPr>
        <p:blipFill>
          <a:blip r:embed="rId1"/>
          <a:stretch/>
        </p:blipFill>
        <p:spPr>
          <a:xfrm>
            <a:off x="4572000" y="2421000"/>
            <a:ext cx="432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abdominal cavity is a large cavity so it is subdivided descriptively  into 9 reg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is division is made by 2 horizontal planes and two vertical pl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ff"/>
                </a:solidFill>
                <a:uFillTx/>
                <a:latin typeface="Times New Roman"/>
              </a:rPr>
              <a:t>The vertical plan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are one on each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ach extends from the mid-clavicular point down to the mid-inguinal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ff"/>
                </a:solidFill>
                <a:uFillTx/>
                <a:latin typeface="Times New Roman"/>
              </a:rPr>
              <a:t>The horizontal plan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bcostal pl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r-tubercular pl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4321080" cy="5546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Posterior wa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wer 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med by the posterior 2 layers of the greater oment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pper 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s formed by the peritoneum covering the following structu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2516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404280"/>
            <a:ext cx="3384360" cy="56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dy of panc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pper part of abdominal aor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ft crus of diaphrag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ft kidney and left suprarenal g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4356000" y="843120"/>
            <a:ext cx="43228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1649520" y="317520"/>
            <a:ext cx="5844960" cy="6014880"/>
            <a:chOff x="1649520" y="317520"/>
            <a:chExt cx="5844960" cy="6014880"/>
          </a:xfrm>
        </p:grpSpPr>
        <p:grpSp>
          <p:nvGrpSpPr>
            <p:cNvPr id="92" name="Group 3"/>
            <p:cNvGrpSpPr/>
            <p:nvPr/>
          </p:nvGrpSpPr>
          <p:grpSpPr>
            <a:xfrm>
              <a:off x="1654200" y="322200"/>
              <a:ext cx="5835600" cy="6005520"/>
              <a:chOff x="1654200" y="322200"/>
              <a:chExt cx="5835600" cy="6005520"/>
            </a:xfrm>
          </p:grpSpPr>
          <p:sp>
            <p:nvSpPr>
              <p:cNvPr id="93" name="Rectangle 4"/>
              <p:cNvSpPr/>
              <p:nvPr/>
            </p:nvSpPr>
            <p:spPr>
              <a:xfrm>
                <a:off x="1654200" y="322200"/>
                <a:ext cx="5835600" cy="600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8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5"/>
              <p:cNvSpPr/>
              <p:nvPr/>
            </p:nvSpPr>
            <p:spPr>
              <a:xfrm>
                <a:off x="1654200" y="322200"/>
                <a:ext cx="5835600" cy="6005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Rectangle 6"/>
            <p:cNvSpPr/>
            <p:nvPr/>
          </p:nvSpPr>
          <p:spPr>
            <a:xfrm>
              <a:off x="1649520" y="317520"/>
              <a:ext cx="5844960" cy="6014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Picture 7" descr="Loading: 'Lymph Vessels and Nodes of Posterior Abdominal Wall and Penis' - Please wait..."/>
          <p:cNvPicPr/>
          <p:nvPr/>
        </p:nvPicPr>
        <p:blipFill>
          <a:blip r:embed="rId1"/>
          <a:stretch/>
        </p:blipFill>
        <p:spPr>
          <a:xfrm>
            <a:off x="1822320" y="368280"/>
            <a:ext cx="4411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Boundaries of the lesser sac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36734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eft border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by the gastrosplenic &amp; lienorenal lig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ight b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piploic foramen (foramen of Winsl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4680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ff"/>
                </a:solidFill>
                <a:uFillTx/>
                <a:latin typeface="Times New Roman"/>
              </a:rPr>
              <a:t>Epiploic foram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2971440"/>
            <a:ext cx="4392720" cy="326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is a slit-like opening connecting the greater with the lesser sa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4859280" y="242100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7925040" cy="93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Boundaries of the epiploic foram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6720" y="2438280"/>
            <a:ext cx="3888000" cy="4114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Anterior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Free margin of lesser omentum containing bile duct, portal vein &amp; hepatic ar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Posterior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C:\Documents and Settings\Main\Desktop\liver\liver-gallbladder01.jpg"/>
          <p:cNvPicPr/>
          <p:nvPr/>
        </p:nvPicPr>
        <p:blipFill>
          <a:blip r:embed="rId1"/>
          <a:stretch/>
        </p:blipFill>
        <p:spPr>
          <a:xfrm>
            <a:off x="250920" y="1413000"/>
            <a:ext cx="3816360" cy="25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46040" y="4149720"/>
            <a:ext cx="342576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838080"/>
            <a:ext cx="4244760" cy="561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Superior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udate lobe of the L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nferior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part of duoden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C:\Documents and Settings\Main\Desktop\liver\liver-gallbladder01.jpg"/>
          <p:cNvPicPr/>
          <p:nvPr/>
        </p:nvPicPr>
        <p:blipFill>
          <a:blip r:embed="rId1"/>
          <a:stretch/>
        </p:blipFill>
        <p:spPr>
          <a:xfrm>
            <a:off x="179280" y="981000"/>
            <a:ext cx="42483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ffff00"/>
                </a:solidFill>
                <a:uFillTx/>
                <a:latin typeface="Times New Roman"/>
              </a:rPr>
              <a:t>Lesser Sac (omental bursa) – Clinical Correla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sser sac has important clinical significance. As it is located posterior to the stomach, the posterior wall of the stomach is in contact with the sa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ny posterior ulceration of the stomach will cause fluid to pass into this sa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an injured pancreas or inflamed pancreas will cause pancreatic secretions to enter the lesser sac. This can cause a pancreatic pseudocy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sometimes the loop of the small intestine will enter the epiploic foramen and go into the lesser s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undaries of the epiploic foramen contain important vessels, hence surgical removal of the intestine is deemed danger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ff"/>
                </a:solidFill>
                <a:latin typeface="Times New Roman"/>
              </a:rPr>
              <a:t>Nerve supply of the peritoneu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Parietal peritone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pplied by somatic nerves that supply the abdominal wall (lower 5 intercostal &amp; subcostal nerves) &amp; diaphragm (phrenic nerv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parietal peritoneum is senstive to pain, temperature and to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The visceral peritone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pplied by autonomic nerves that supplies the visc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is only sensitive to traction and distension of the visc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Subcostal pla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lies at the lowest limit of the costal margin (level of L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Inter-tubercular pla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passes between the tubercles of the two iliac crests (level of L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85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ff"/>
                </a:solidFill>
                <a:latin typeface="Times New Roman"/>
              </a:rPr>
              <a:t>The divisions of the abdominal cavity ar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486080" y="1981080"/>
          <a:ext cx="6172200" cy="42530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108520"/>
              </a:tblGrid>
              <a:tr h="135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ight hypo-chondr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pigastr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eft hypo-chondr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5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ight lumb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mbil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eft lumb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4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ight iliac fos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ypogast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suprapub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eft iliac fos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3D706001"/>
          <p:cNvPicPr/>
          <p:nvPr/>
        </p:nvPicPr>
        <p:blipFill>
          <a:blip r:embed="rId1"/>
          <a:stretch/>
        </p:blipFill>
        <p:spPr>
          <a:xfrm>
            <a:off x="2286000" y="1380960"/>
            <a:ext cx="4095720" cy="4096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3600360" y="2457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99ff"/>
                </a:solidFill>
                <a:uFillTx/>
                <a:latin typeface="Times New Roman"/>
              </a:rPr>
              <a:t>Transpyloric plan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t cuts the body of the first lumbar verteb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t lies midway between the xiphoid process of sternum and umbilic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Structures at this lev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ylorus of stom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lum of left kid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dus of gall blad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ody of L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60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Peritoneu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imes New Roman"/>
              </a:rPr>
              <a:t>Peritoneu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4173480" cy="5184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t is a closed serous sac present inside the abdominal ca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peritoneum looks like a ball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intra-abdominal organs have different relations with the peritone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Enclosed within a fold of peritoneum (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ntraperitoneal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and so freely mob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Present behind the peritoneum and so they are fixed; 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retroperiton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88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5184720" cy="609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Times New Roman"/>
              </a:rPr>
              <a:t>Parietal peritoneu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part of peritoneum that lines the abdominal w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Times New Roman"/>
              </a:rPr>
              <a:t>Visceral peritoneu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part of peritoneum that surrounds the abdominal organs (viscera)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Times New Roman"/>
              </a:rPr>
              <a:t>Peritoneal ca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s a potential space between the parietal and visceral peritoneum that contains a very thin film of flu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e in the amount of this fluid is called </a:t>
            </a:r>
            <a:r>
              <a:rPr b="1" i="1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asc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543640" y="1484280"/>
            <a:ext cx="36003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23:42:16Z</dcterms:created>
  <dc:creator>مهندس / ماجد صفوت يوسف</dc:creator>
  <dc:description/>
  <dc:language>en-US</dc:language>
  <cp:lastModifiedBy>Shawki Tail</cp:lastModifiedBy>
  <dcterms:modified xsi:type="dcterms:W3CDTF">2014-04-09T10:55:32Z</dcterms:modified>
  <cp:revision>22</cp:revision>
  <dc:subject/>
  <dc:title>ABDOMINAL CAVITY</dc:title>
</cp:coreProperties>
</file>